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6BE-B40E-4405-A316-C68ABD35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066-F79B-482F-A523-613C640D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2F8-6087-4163-A8E0-6AC4113D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60D-44A4-41E2-B7AD-B4568307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94A-79EB-470D-AA3D-DD1AC5C5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FD4-68AD-40D4-B244-68B87949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41A-E3E0-4A42-AA43-85B8C661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249-4D69-486F-B6F4-53D9F3A3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90B-A427-42F8-89BE-B86E58FC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AE5-5E68-41C2-88EC-0281A1D7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A87-3845-4197-9A1A-B735303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5CB-186B-494C-BAF4-2C4F0A83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A7D8-D775-4D1F-86C5-CEC0B3778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495288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ppy Thursday! 5/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3657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ke a ½ white she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lease turn in your China metaphors (visual AND written explanatio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2133720"/>
            <a:ext cx="2647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8610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zi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Due Thurs. 5/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55623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ake No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Chapter 33 Section 1: Onl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ages 967-97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from United States Tries to Contain Sovi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have work time in class on Tuesday 5/29 also, get started now in case you have questio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 on the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emester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03848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Exam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0 multiple choice and 5 short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your semester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use hand-written info on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review gu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ust fill out yoursel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n-class revi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y Monday, Jun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exam grade on your report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Due Thurs. 5/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95280"/>
            <a:ext cx="5562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ake No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Chapter 33 Section 1: Onl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ages 967-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295520" cy="2111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, May 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taph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e!  Cold War Da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esday, May 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ld War 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, May 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ld War Day 3.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Last homework assignment d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day, June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xtra Cred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e! NOTE: We DO NOT hav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2955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day, June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 Review Day!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extboo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e.  You can turn your textbook in at ANY TIME before then. There is a $75 fee for lost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, June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Hou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am (9:10-10: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day, June 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Hou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am (9:10-10: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2955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rsday, May 2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Metaph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e!  Cold War Day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esday, May 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ld War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rsday, May 3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ld War Day 3.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ast homework assignment d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iday, June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Extra Cred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e! NOTE: We DO NOT hav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day, June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Review Day!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Textboo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e.  You can turn your textbook in at ANY TIME before then. There is a $75 fee for lost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rsday, June 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ff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H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am (9:10-10: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iday, June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ff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H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am (9:10-10: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2955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95480" y="1219320"/>
            <a:ext cx="5243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4845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Sym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23760" y="1446120"/>
            <a:ext cx="71535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6771" t="3141" r="34894" b="7813"/>
          <a:stretch/>
        </p:blipFill>
        <p:spPr>
          <a:xfrm>
            <a:off x="0" y="-763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5943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9:03:20Z</dcterms:created>
  <dc:creator>MCPASD</dc:creator>
  <dc:description/>
  <dc:language>en-US</dc:language>
  <cp:lastModifiedBy>MCPASD</cp:lastModifiedBy>
  <dcterms:modified xsi:type="dcterms:W3CDTF">2012-05-24T18:14:42Z</dcterms:modified>
  <cp:revision>15</cp:revision>
  <dc:subject/>
  <dc:title>Slide 1</dc:title>
</cp:coreProperties>
</file>